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886-00A6-4968-8037-1E70FFA9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E744-B854-406D-83E9-6A03B848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0DA-88B1-4DD2-884D-46373FF8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29F-3CC4-4AC2-A11E-ABF20CD4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A425C-D624-46F8-9238-DED0F14E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02C51-7AB3-4086-A59F-40DDAD26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F11D5-9544-403C-959B-9E99AA92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94BD7-AAB8-4ADF-B88A-8FBB88E1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85276-5E74-4036-95EF-CFA4EAE2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17221-B1C0-4507-9069-D6DDD1C3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D5A3F-0CC5-4273-B231-CBD94592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F66-405F-4A52-B9F2-C9230311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70D5C-53F1-4900-A9A4-CB913F1C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5109A-BF8A-4510-ADBA-48F82E64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2BA02-00D3-4669-A17B-CE987FD5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9A389-51C8-446D-9CC3-23952C87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18616-E69E-406D-A927-945B750B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5D0-66B6-4C01-BCBF-31BE2154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AFAB-5914-4EF4-BA99-A6576DC0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F23-5EF9-4717-A928-B0BA1E0D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4671-438E-4610-AB8D-FB90CC9B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498-7326-45D1-87C0-9EFC55F9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356-4637-4565-A745-09D045AE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FA4-5115-4119-A8B1-0F129B22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0968-B9FB-4280-BBD9-A8CA4BBD80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8EFB-2E5A-4360-B332-F06C014CE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ar Bea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Crystal Wol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362320" cy="2444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859200">
            <a:off x="228600" y="4495680"/>
            <a:ext cx="1839960" cy="1703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2971800" cy="260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181480" y="4648320"/>
            <a:ext cx="3657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91960"/>
            <a:ext cx="84582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 you know any thing about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ar bears?....I will help you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666880" y="243828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rst I will tell you about thei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z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le polar bears may grow 10 feet tall a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igh 1400 pounds. Females reach sev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et tall and weigh 650 poun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733920" y="3736800"/>
            <a:ext cx="246204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 will tell you about a polar bear’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fe spa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fe span is 20 – 25 years. Any age ov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at is luck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743200" y="312408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 will tell you what they ea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eat bearded seals, walrus, beluga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le. They eat birds, vegetation and kel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666880" y="3048120"/>
            <a:ext cx="4025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 will tell you where they liv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live in the Arctic. They live in oth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ces to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352680" y="2514600"/>
            <a:ext cx="2425680" cy="3657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352680" y="2514600"/>
            <a:ext cx="3124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hope you’ve had a fun time reading !!By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619440" y="2585880"/>
            <a:ext cx="24004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20:16:18Z</dcterms:modified>
  <cp:revision>4</cp:revision>
  <dc:subject/>
  <dc:title>Animal Name</dc:title>
</cp:coreProperties>
</file>